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CADD01-5B7B-4CA3-BED0-F913D4D8506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1B5CA0-89B5-4EAE-9985-134491479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917E88-E902-42E0-A964-4B38A8017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EFEABF-EB2B-456B-AE88-5F4ECD976EE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3AEEC4-925C-40BA-A37C-CD7FCA7EF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C5E133-71DF-4B0E-899E-2F264CA7C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42CE22-639A-4B4A-B3A4-B6F4E07FF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E7D33D-B4B8-4FB0-9B53-E78885886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3DA36E-3D2D-4751-B68F-F5144262A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DC5435-3FD3-4693-BCC2-D8B16D7D6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D3376F-EE27-4A91-ADA3-9BCAF56F7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C305E3-7187-4F08-820A-7F267D41C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2487F-0BDE-44F2-AC9B-A02B0E22B4D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7640" y="2276640"/>
            <a:ext cx="8785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十九章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胃癌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胃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姑息性切除术：用于癌肿广泛浸润并转移、不能完全切除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化学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9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胃癌，经积极术前准备后拟行胃癌根治术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①该患者术后可能出现哪些并发症？②应如何护理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胃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／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焦虑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恐惧  与疼痛、患者对癌症的恐惧心理、治疗效果和预后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营养失调（低于机体需要量）  长期食欲减退、消化吸收不良及癌肿导致的消耗增加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潜在并发症：出血、十二指肠残端破裂、吻合口瘘、胃排空障碍、消化道梗阻、倾倒综合征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胃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改善患者的营养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肠道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前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给患者口服肠道不吸收的抗生素，术前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晚清洁灌肠，有幽门梗阻的患者术前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起每晚用温生理盐水洗胃，以减轻胃黏膜的水肿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道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胃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禁食和胃肠减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引流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胃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支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外营养支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内营养支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应用抗生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胃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的观察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出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十二指肠残端破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肠吻合口破裂或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残胃蠕动无力或称胃排空障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胃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的观察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梗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倾倒综合征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dumping syndrome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: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系由于胃大部分切除术后，失去对胃排空的控制，导致胃排空过速所产生的一系列综合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胃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癌的预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适当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定期复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不明确，可能与地域环境与饮食生活习惯、幽门螺杆菌感染、癌前疾病和癌前病变及遗传和基因因素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早期胃癌多无明显症状，随病情进展，症状日益加重，常有上腹疼痛、食欲不振、呕吐、乏力、消瘦等症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复述胃癌的转移途径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描述胃癌的临床特点、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解释胃癌术后的常见并发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评估胃癌患者并为其制订护理计划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以手术治疗为主，辅以化疗、放疗、免疫治疗等综合治疗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护理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术前应缓解患者情绪，改善营养状况，做好胃肠道和呼吸道准备。术后要做好病情观察，胃肠减压管和腹腔引流管的护理，鼓励功能锻炼，给予营养支持，重点预防各种并发症的发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9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56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岁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个月前开始出现上腹部隐痛不适，进食后明显，伴饱胀感，食欲逐渐下降，无明显恶心、呕吐及呕血，当地医院按“胃炎”进行治疗，稍好转。近半月自觉乏力，体重较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月前下降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kg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。近日粪便色黑而就诊，查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大便潜血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+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，查血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Hb 96g/L,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为进一步诊治收入院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检：一般状况尚可，浅表淋巴结未及肿大，皮肤无黄染，结膜甲床苍白，腹平坦，未见胃肠型及蠕动波，腹软，肝脾未及，腹部未及包块，剑突下区域深压痛，移动性浊音（－），肠鸣音正常，直肠指检未及异常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线钡餐检查：胃窦小弯侧似见直径约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大小龛影，位于胃轮廓内，周围粘膜僵硬粗糙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腹部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超：未见肝异常，胃肠部分检查不满意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胃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早期胃癌多无明显症状，部分患者可有上腹隐痛、嗳气、反酸、食欲减退等症状，无特异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癌扩散的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胃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纤维胃镜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钡餐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螺旋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胃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幽门螺杆菌感染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慢性良性胃部疾患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因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胃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560" y="1371240"/>
            <a:ext cx="4771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根治性手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毕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I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式胃大部切除术：即在胃大部切除后将残胃与十二指肠吻合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3" name="Picture 2" descr=""/>
          <p:cNvPicPr/>
          <p:nvPr/>
        </p:nvPicPr>
        <p:blipFill>
          <a:blip r:embed="rId1"/>
          <a:stretch/>
        </p:blipFill>
        <p:spPr>
          <a:xfrm>
            <a:off x="5796000" y="1125360"/>
            <a:ext cx="3168720" cy="462924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12"/>
          <p:cNvSpPr/>
          <p:nvPr/>
        </p:nvSpPr>
        <p:spPr>
          <a:xfrm>
            <a:off x="6369120" y="5956200"/>
            <a:ext cx="2774880" cy="3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46ca6"/>
                </a:solidFill>
                <a:latin typeface="Calibri"/>
              </a:rPr>
              <a:t>毕</a:t>
            </a:r>
            <a:r>
              <a:rPr b="0" lang="en-US" sz="1600" spc="-1" strike="noStrike">
                <a:solidFill>
                  <a:srgbClr val="046ca6"/>
                </a:solidFill>
                <a:latin typeface="Calibri"/>
              </a:rPr>
              <a:t>I</a:t>
            </a:r>
            <a:r>
              <a:rPr b="0" lang="zh-CN" sz="1600" spc="-1" strike="noStrike">
                <a:solidFill>
                  <a:srgbClr val="046ca6"/>
                </a:solidFill>
                <a:latin typeface="Calibri"/>
              </a:rPr>
              <a:t>式胃大部切除术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胃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04920" y="1371240"/>
            <a:ext cx="49910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根治性手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毕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II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式胃大部切除术：即胃大部切除后残胃与空肠吻合，十二指肠残端关闭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Text Box 12"/>
          <p:cNvSpPr/>
          <p:nvPr/>
        </p:nvSpPr>
        <p:spPr>
          <a:xfrm>
            <a:off x="6012000" y="5300640"/>
            <a:ext cx="2774880" cy="3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46ca6"/>
                </a:solidFill>
                <a:latin typeface="Arial"/>
              </a:rPr>
              <a:t>毕</a:t>
            </a:r>
            <a:r>
              <a:rPr b="0" lang="en-US" sz="1600" spc="-1" strike="noStrike">
                <a:solidFill>
                  <a:srgbClr val="046ca6"/>
                </a:solidFill>
                <a:latin typeface="Arial"/>
              </a:rPr>
              <a:t>II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</a:rPr>
              <a:t>式胃大部切除术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5292720" y="1844640"/>
            <a:ext cx="388296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胃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560" y="1371240"/>
            <a:ext cx="5203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根治性手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胃大部切除后胃空肠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Roux-en-Y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吻合术：即胃大部切除后关闭十二指肠残端，在距十二指肠悬韧带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5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处切断空肠，将残胃和远端空肠吻合，距此吻合口以下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45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60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处与空肠近侧断端吻合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3" name="Picture 2" descr=""/>
          <p:cNvPicPr/>
          <p:nvPr/>
        </p:nvPicPr>
        <p:blipFill>
          <a:blip r:embed="rId1"/>
          <a:stretch/>
        </p:blipFill>
        <p:spPr>
          <a:xfrm>
            <a:off x="5530680" y="1268280"/>
            <a:ext cx="3149640" cy="435780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14"/>
          <p:cNvSpPr/>
          <p:nvPr/>
        </p:nvSpPr>
        <p:spPr>
          <a:xfrm>
            <a:off x="5530680" y="5877000"/>
            <a:ext cx="3613320" cy="3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46ca6"/>
                </a:solidFill>
                <a:latin typeface="Calibri"/>
              </a:rPr>
              <a:t>胃大部切除后胃空肠</a:t>
            </a:r>
            <a:r>
              <a:rPr b="0" lang="en-US" sz="1600" spc="-1" strike="noStrike">
                <a:solidFill>
                  <a:srgbClr val="046ca6"/>
                </a:solidFill>
                <a:latin typeface="Calibri"/>
              </a:rPr>
              <a:t>Roux-en-Y</a:t>
            </a:r>
            <a:r>
              <a:rPr b="0" lang="zh-CN" sz="1600" spc="-1" strike="noStrike">
                <a:solidFill>
                  <a:srgbClr val="046ca6"/>
                </a:solidFill>
                <a:latin typeface="Calibri"/>
              </a:rPr>
              <a:t>吻合术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04:38:39Z</dcterms:modified>
  <cp:revision>87</cp:revision>
  <dc:subject/>
  <dc:title>内科护理学</dc:title>
</cp:coreProperties>
</file>